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dt" idx="3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7376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ftr" idx="38"/>
          </p:nvPr>
        </p:nvSpPr>
        <p:spPr>
          <a:xfrm>
            <a:off x="-36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 type="sldNum" idx="39"/>
          </p:nvPr>
        </p:nvSpPr>
        <p:spPr>
          <a:xfrm>
            <a:off x="385416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F351B-7118-4650-BD2B-0434CDECFA5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8D139-F5C0-4547-BE53-080B8FCB890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AFB1A-92BC-472A-9B66-293361CFB5B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1ACA2-493C-45D9-AD68-4717EE5AD3C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BF2C7-E6FC-4AEE-B1BE-927EC0B5FDA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21B1A-402F-44EE-998D-7D5CCF93DC6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D265C-8043-4EDF-99A7-1B12F19DF49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65BE6-D2D9-4363-898A-1043BD1A515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FEAB-1591-4E86-AD16-9090FAE2F93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34425-6F13-42DB-8625-295357EA57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F68F-1C75-46C1-A192-7870476F65F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C4E5C-3139-4CCD-B944-A38B82B9763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0BDD3-F6EB-4A35-8E53-8AC521F559F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1DAA0-0D08-4CF1-AFE4-F135FCBBD74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15B5D-AB3C-43B9-8D27-B9B7C97A9A0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75AE3-F4CE-4EC3-9C8D-19D10E1477B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DBC73-119C-4AF2-9269-57BAADC9E3A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630FF-CBC9-485A-B37A-856E35C9F11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57FA-E772-44BB-8EDF-7ED66242B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0D7F-685A-415B-921E-D0CA815D1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A67017-BE1D-4371-BFB8-207CDFAC7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B753F5-9440-43C6-B8F3-FCA638A3B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E42AE9-1CC0-4C77-87D3-880E9F62E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B83AAA-4290-4D28-A666-8A2988ED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31C37E-DD86-47DB-954E-3D78B3FF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9F8AC1-2860-42E3-A354-27D2ED69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954DDF-804F-4587-B849-837FE9AED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B210ED-0305-48E7-B2C3-6C55E9FCE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19E3D7-F5DE-48AC-89AA-40AF101D6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47F550-1DF7-44E2-BEDE-0E87F9BEB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2EE2-8503-4720-9904-772F0A955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E7832D-E00C-4B35-B192-7F0304EC2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323E47-C24D-4E37-B23C-43ACF829E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4E77A8-19CF-4A9B-8616-07759966B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1BC140-24C8-4B8F-8302-4CC18C97A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DF24EA-F309-4D88-AA89-8A84FCA3C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FCEE50-B46C-4420-81E4-117D1893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8FDE6E-9994-46AC-833D-ED35EAFD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6E1807-C85F-4C17-A457-3FB9E52C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5CC494-5F68-44A4-9E11-483496093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371D4A-67E7-4103-BA38-03B2BC90A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94BC-ED50-468D-AE9E-9395EA3C9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7C3CAA-BBE6-4D9C-AE27-4F2FE4208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D5D2DF-8F21-4927-BB5D-61B3F1C3C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1A0E1B-2926-43FA-94CD-DE3AF4969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15D8DF-5925-4389-9A2B-D49BDE85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A279A7-9179-47BD-AFBF-B219C5033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A2DB84-7284-4933-8CBA-ED4CF4484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578BE1-EC6D-42E8-B924-F8922E2D2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255DC1-748A-40A7-881E-88392CD6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635EFB-095A-4466-ABCA-6840361B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3F0F43-C65D-49C2-89F6-E1EFCE59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C0591-9EF1-43E8-87F2-194F87DA0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B6AD4A-6DB5-47F5-A0EC-90BABD175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E74D5D-7DF4-4FB2-9637-5B3663408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D91804-2F8C-4100-8336-7C7E0B4AC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65387B-ACDC-43B1-8903-3A3994D93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F2FD9E-381B-46A0-B451-ED6F4617B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B25B51-23BC-418C-BDC3-65414AE06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C9CBC6-C929-4A69-9CC2-6A4FA9D57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429800-935D-4C0B-B7F5-397AB15AF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D9F9F3-3B6D-4800-9739-84318A743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C8459C-8506-4B23-B85C-2EA5BFCE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78BBA-660D-4F77-9257-671C9477E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9C91EE-8AEA-42B6-B690-A7CD05B6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C0217D-CB70-4BE1-849C-79FDA50B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A753DC-B417-4627-A919-5FAFF8B56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AF741C-0B5E-4C0B-81FB-D8D5EC815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A04884-9CCA-4670-9547-25A15813A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21587-62C8-4395-AD64-E39BC526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E6161-DF40-49A5-A1F9-3D7406AA8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2B63E-02FE-4C83-B62E-DBF84459A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B8641-359C-4F9B-9B0F-A5EC9B761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2D952-AA92-405C-9BFB-2CFAF86A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581D-8A5D-4482-B363-4F10A266C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D4D77-99A6-45DC-B5E8-EEEDD916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AC509-2BB9-4D05-AB3B-F825A8F2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311BB-F2BE-473B-81DF-2DE1FD6AC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EEAE3-2DFF-4C02-A32D-8A0AC3980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718EC-D43A-4CA6-AB1D-21D2D13C1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44E86-EB9C-4188-B520-CE2656444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E9CB3-0B9B-449C-B39B-88871BDFA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74E52-0039-4CA4-8D1F-26CF2070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C8205-C594-4639-83F3-3BA6B7BA8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715EE-6457-415C-ADA8-76A4581B8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3984-A4AF-4967-BC7B-961793133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0C68E-96F2-4848-9474-324B1D7F1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8B60F-00AD-499F-9839-1ED4EE7E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95FD6-3F1D-48F4-80E4-6A737973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3F999-47EA-4804-BB3C-2B04E020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EA675-B538-47D7-BEEC-3C8AE7C37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B0B0F-6487-4B8B-92D5-25E1B69C2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A7326-7085-4E09-B750-ABDD89F35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C2F4A-EAEB-495C-8DD1-B3ED2ADD1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AF35E-540E-4C3D-97A2-C457F2F8B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C5C4D-094F-484D-8597-BB502923E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18B6-49A8-4F2F-970C-C87FE564B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C181F-15C0-47A9-BEEE-D5CC7988B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E33D7-A9A4-4EE9-9A93-A1ED4D17A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AADA9-B076-4810-B293-15CFD6B39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C906C-D53B-4F77-91C5-B92BEB65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06C95-B444-46D3-807F-63137BE7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6CC0C-4E18-47DD-99A9-A7F3CD53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6E3D2-BBCF-4B96-BAA2-964B08C19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0ABCB-969B-475A-BF67-055C987DE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BADB8-DF4A-4A35-AACC-9D1FAC3C8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D38AB-A4EF-4A6A-A3DE-7D13F54AD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9F63-811F-4DFD-8817-48C30806C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5796C-D865-40D2-8E61-F0D7F690C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4B764-39A5-410A-AFEC-675AA88AD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F2156-112D-4AFB-8E5B-66B874375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F3FC4-A0E7-44A6-9F07-829233A73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A4A88-FD72-4AE6-90E3-6E0FD66EE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16072-9EF9-4BE2-9CF2-DE86BEA0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382A0-F6E9-48D7-9663-555E5B43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0347D-42AB-4C42-B582-DD9AA7D2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92163-267D-42A8-86F0-EC9164332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06507-FE4A-4242-95EB-F5D0EFBDA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1958-EE56-47A5-A7E7-3B6A6D65F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80354-0B72-4E65-848F-18F336436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06499-3162-4677-A737-A045A4C03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F46FA-8F97-401A-A1F3-09E5078E6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2D2447-27B7-489A-8468-A1908AEFF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3A99F-0D56-49E4-940F-6C9E16962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B2BCB-2385-405B-91FF-9C9751521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0DCD2C-8AD7-45CF-8983-001E4AF3B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DE09A-2E45-49F4-9E4A-8A96BB26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8FC0A-C58D-436F-933A-FAEBEF629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1FE11-F220-4147-B8D3-8B7A2E07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2E04-C03E-405E-86D3-44880A43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8D107-826B-4C46-9F1E-21E506304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037E6-7935-44A3-B20F-BBE7F4970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E3AE3-92E3-469C-BEB7-6E201C1A5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9394F-7DB2-4FA5-937D-2542A43FD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3291CF-1C55-4445-813B-ED6F49FAA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EE3C4F-A477-4DF9-B221-46571E020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03DD5C-407A-483C-90EC-E506B92BA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747C9-5185-4BBA-A0F7-7C768B648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02CD5-330D-4E47-9AB8-3F1DA3F0C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88F152-DE95-4D3C-965A-2C4BCAB8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7021-410F-4F25-B0BE-0C608D7C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D499CD-3472-4261-9B8E-262BE999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6B3BD4-9545-4E38-AB7E-4C3469F6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6E45BE-1B47-4C42-A567-1336E9D4C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81049-B2B2-43DE-8750-A165748EA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5838D4-10DB-4300-B694-AEF962B5F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26F24C-BA5D-4FCB-AD92-363979352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B79412-8CAC-4D8B-B5DF-C3B134FF3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368CC1-CA13-44BD-8EEA-5E5F74A06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3F1786-902D-4E71-84C9-444337F99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24F61A-1FA7-46C1-B3BD-57DB72668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E3AA-48E8-4FA9-B934-50F62DAE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A6E837-B68A-478A-8BAA-FF5F27A87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D4B879-0608-4057-82A9-741F11E3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428B63-CE94-4BF4-812E-9E8278BF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6038F9-47AA-48CA-9C13-9706CE80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2AFD14-3EB9-4C66-B258-3F55EF35D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B93CA8-1DBF-41E3-BC35-A1E608DF3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6B2B3C-2392-4D09-B15B-3E64E2A2D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9AA9EC-4D6B-47B1-B128-28A6CDF2C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FDE7D0-DB95-45B7-AE99-3755DC849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A585F4-E3DB-428A-AF06-6F0AEAE4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F56B0-BBF7-4266-84D5-32164EBACD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7" name="Rectangle 19"/>
          <p:cNvSpPr/>
          <p:nvPr/>
        </p:nvSpPr>
        <p:spPr>
          <a:xfrm>
            <a:off x="4251240" y="1222200"/>
            <a:ext cx="623880" cy="39960"/>
          </a:xfrm>
          <a:prstGeom prst="rect">
            <a:avLst/>
          </a:prstGeom>
          <a:solidFill>
            <a:srgbClr val="ee80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19"/>
          <p:cNvSpPr/>
          <p:nvPr/>
        </p:nvSpPr>
        <p:spPr>
          <a:xfrm>
            <a:off x="4251240" y="1222200"/>
            <a:ext cx="623880" cy="39960"/>
          </a:xfrm>
          <a:prstGeom prst="rect">
            <a:avLst/>
          </a:prstGeom>
          <a:solidFill>
            <a:srgbClr val="ee80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82145-F13B-4782-90E6-0A228B06652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442" name="Rectangle 19"/>
          <p:cNvSpPr/>
          <p:nvPr/>
        </p:nvSpPr>
        <p:spPr>
          <a:xfrm>
            <a:off x="4251240" y="1222200"/>
            <a:ext cx="623880" cy="39960"/>
          </a:xfrm>
          <a:prstGeom prst="rect">
            <a:avLst/>
          </a:prstGeom>
          <a:solidFill>
            <a:srgbClr val="ee80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19D7D-20BA-4AD8-90DD-AED91725E8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486" name="Rectangle 19"/>
          <p:cNvSpPr/>
          <p:nvPr/>
        </p:nvSpPr>
        <p:spPr>
          <a:xfrm>
            <a:off x="4251240" y="1222200"/>
            <a:ext cx="623880" cy="39960"/>
          </a:xfrm>
          <a:prstGeom prst="rect">
            <a:avLst/>
          </a:prstGeom>
          <a:solidFill>
            <a:srgbClr val="ee80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28C23-1972-49EA-9266-59D85DC124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4"/>
          <p:cNvSpPr/>
          <p:nvPr/>
        </p:nvSpPr>
        <p:spPr>
          <a:xfrm>
            <a:off x="4251240" y="1224000"/>
            <a:ext cx="623880" cy="31680"/>
          </a:xfrm>
          <a:prstGeom prst="rect">
            <a:avLst/>
          </a:prstGeom>
          <a:solidFill>
            <a:srgbClr val="ee80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4E0B7-E4FF-4770-828D-FF04A51AB21E}" type="slidenum">
              <a:rPr b="0" lang="en-GB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9"/>
          <p:cNvSpPr/>
          <p:nvPr/>
        </p:nvSpPr>
        <p:spPr>
          <a:xfrm>
            <a:off x="4251240" y="1222200"/>
            <a:ext cx="623880" cy="39960"/>
          </a:xfrm>
          <a:prstGeom prst="rect">
            <a:avLst/>
          </a:prstGeom>
          <a:solidFill>
            <a:srgbClr val="ee80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4E026-5BB8-4D2F-80FB-A36827F316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9"/>
          <p:cNvSpPr/>
          <p:nvPr/>
        </p:nvSpPr>
        <p:spPr>
          <a:xfrm>
            <a:off x="4251240" y="1222200"/>
            <a:ext cx="623880" cy="39960"/>
          </a:xfrm>
          <a:prstGeom prst="rect">
            <a:avLst/>
          </a:prstGeom>
          <a:solidFill>
            <a:srgbClr val="ee80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1B9C9-2826-481E-B5C8-824B1028E4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9"/>
          <p:cNvSpPr/>
          <p:nvPr/>
        </p:nvSpPr>
        <p:spPr>
          <a:xfrm>
            <a:off x="4251240" y="1222200"/>
            <a:ext cx="623880" cy="39960"/>
          </a:xfrm>
          <a:prstGeom prst="rect">
            <a:avLst/>
          </a:prstGeom>
          <a:solidFill>
            <a:srgbClr val="ee80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CBAB1-F20F-4084-BB1C-FF55A09C57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19"/>
          <p:cNvSpPr/>
          <p:nvPr/>
        </p:nvSpPr>
        <p:spPr>
          <a:xfrm>
            <a:off x="4251240" y="1222200"/>
            <a:ext cx="623880" cy="39960"/>
          </a:xfrm>
          <a:prstGeom prst="rect">
            <a:avLst/>
          </a:prstGeom>
          <a:solidFill>
            <a:srgbClr val="ee80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73776-136D-473A-8F14-7723E786CB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19"/>
          <p:cNvSpPr/>
          <p:nvPr/>
        </p:nvSpPr>
        <p:spPr>
          <a:xfrm>
            <a:off x="4251240" y="1222200"/>
            <a:ext cx="623880" cy="39960"/>
          </a:xfrm>
          <a:prstGeom prst="rect">
            <a:avLst/>
          </a:prstGeom>
          <a:solidFill>
            <a:srgbClr val="ee80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1F7AF-0466-41EE-B917-6BFF41BB8BE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310" name="Rectangle 19"/>
          <p:cNvSpPr/>
          <p:nvPr/>
        </p:nvSpPr>
        <p:spPr>
          <a:xfrm>
            <a:off x="4251240" y="1222200"/>
            <a:ext cx="623880" cy="39960"/>
          </a:xfrm>
          <a:prstGeom prst="rect">
            <a:avLst/>
          </a:prstGeom>
          <a:solidFill>
            <a:srgbClr val="ee80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9FDA-6909-40D8-AA43-1EF66D073AA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19"/>
          <p:cNvSpPr/>
          <p:nvPr/>
        </p:nvSpPr>
        <p:spPr>
          <a:xfrm>
            <a:off x="4251240" y="1222200"/>
            <a:ext cx="623880" cy="39960"/>
          </a:xfrm>
          <a:prstGeom prst="rect">
            <a:avLst/>
          </a:prstGeom>
          <a:solidFill>
            <a:srgbClr val="ee80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9A73F-6FEA-4104-A772-B2B006DCC5A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324000" y="4941360"/>
            <a:ext cx="8604000" cy="6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Monitoring committee, 19 May 2016, Ljubljana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6" name="Rectangle 3"/>
          <p:cNvSpPr/>
          <p:nvPr/>
        </p:nvSpPr>
        <p:spPr>
          <a:xfrm>
            <a:off x="395280" y="5805360"/>
            <a:ext cx="6913440" cy="9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Adam Pokor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Directorate-General for Employment, Social Affairs and Inclu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title"/>
          </p:nvPr>
        </p:nvSpPr>
        <p:spPr>
          <a:xfrm>
            <a:off x="179280" y="1916280"/>
            <a:ext cx="8785440" cy="23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d624"/>
                </a:solidFill>
                <a:latin typeface="Verdana"/>
              </a:rPr>
              <a:t>ESF funding period 2014-2020: Report from Brussels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24000" y="1268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Country Report – Slovenia: Labour Market and Social policy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179280" y="2347920"/>
            <a:ext cx="8794800" cy="43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f5494"/>
                </a:solidFill>
                <a:latin typeface="Verdana"/>
              </a:rPr>
              <a:t>Ageing Society as a key challenge</a:t>
            </a:r>
            <a:endParaRPr b="0" i="1" lang="en-US" sz="23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f5494"/>
                </a:solidFill>
                <a:latin typeface="Verdana"/>
              </a:rPr>
              <a:t>Slovenia is projected to experience one of the largest increases in public pension expenditure in the EU; the expenditure for long-term care and health is also projected to increase substantially </a:t>
            </a:r>
            <a:endParaRPr b="0" i="1" lang="en-US" sz="23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f5494"/>
                </a:solidFill>
                <a:latin typeface="Verdana"/>
              </a:rPr>
              <a:t>Labour market performance is gradually improving and social conditions stabilised for the first time after the crisis.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Low shares of older and low-skilled workers participating in the labour market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Long-term unemployment represents more than half of all unemployed (low skilled or older than 50)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A6CD8-8BE9-4D12-9642-003C1D80181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5694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Country Specific Recommendations 2016 - Slovenia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457200" y="256356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1…Complete and implement the reform of the long-term care and healthcare systems, making them more cost-efficient to ensure long-term sustainability of accessible and quality care. By the end of 2017, adopt the reform of the pension system.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2. In consultation with social partners, increase the employability of low-skilled and older workers, including through targeted lifelong learning and activation measures.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801C0-A5B7-4824-A1F6-0410A1FA4D1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Curved Up Arrow 1"/>
          <p:cNvSpPr/>
          <p:nvPr/>
        </p:nvSpPr>
        <p:spPr>
          <a:xfrm>
            <a:off x="7451640" y="4724280"/>
            <a:ext cx="649440" cy="144720"/>
          </a:xfrm>
          <a:custGeom>
            <a:avLst/>
            <a:gdLst>
              <a:gd name="textAreaLeft" fmla="*/ 148680 w 649440"/>
              <a:gd name="textAreaRight" fmla="*/ 482760 w 649440"/>
              <a:gd name="textAreaTop" fmla="*/ 19080 h 144720"/>
              <a:gd name="textAreaBottom" fmla="*/ 12564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900" hR="21600" stAng="10800000" swAng="-5400000"/>
                <a:lnTo>
                  <a:pt x="11100" y="21600"/>
                </a:lnTo>
                <a:arcTo wR="9900" hR="21600" stAng="5400000" swAng="-3636334"/>
                <a:lnTo>
                  <a:pt x="21286" y="5400"/>
                </a:lnTo>
                <a:lnTo>
                  <a:pt x="20400" y="0"/>
                </a:lnTo>
                <a:lnTo>
                  <a:pt x="18886" y="5400"/>
                </a:lnTo>
                <a:lnTo>
                  <a:pt x="19486" y="5400"/>
                </a:lnTo>
                <a:arcTo wR="9900" hR="21600" stAng="1763666" swAng="3540690"/>
                <a:lnTo>
                  <a:pt x="10500" y="21560"/>
                </a:lnTo>
                <a:arcTo wR="9900" hR="21600" stAng="5495644" swAng="5304356"/>
                <a:close/>
              </a:path>
              <a:path fill="darkenLess" w="21600" h="21600">
                <a:moveTo>
                  <a:pt x="0" y="0"/>
                </a:moveTo>
                <a:arcTo wR="9900" hR="21600" stAng="10800000" swAng="-5400000"/>
                <a:lnTo>
                  <a:pt x="11100" y="21600"/>
                </a:lnTo>
                <a:arcTo wR="9900" hR="21600" stAng="5400000" swAng="95644"/>
                <a:lnTo>
                  <a:pt x="10500" y="21560"/>
                </a:lnTo>
                <a:arcTo wR="9900" hR="21600" stAng="5495644" swAng="5304356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5694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Country Specific Recommendations 2016 - Slovenia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57200" y="256356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3. Improve the financing conditions for creditworthy business, including by facilitating durable resolution of non-performing loans and access to alternative financing sources. Ensure the proper implementation of the bank asset management company strategy.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4. Take measures to modernise public administration and reduce the administrative burden on business. Improve the governance and the performance of state-owned enterprises.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594E-8C67-46CF-849E-5C21B1DB547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Curved Up Arrow 1"/>
          <p:cNvSpPr/>
          <p:nvPr/>
        </p:nvSpPr>
        <p:spPr>
          <a:xfrm>
            <a:off x="7451640" y="4724280"/>
            <a:ext cx="649440" cy="144720"/>
          </a:xfrm>
          <a:custGeom>
            <a:avLst/>
            <a:gdLst>
              <a:gd name="textAreaLeft" fmla="*/ 148680 w 649440"/>
              <a:gd name="textAreaRight" fmla="*/ 482760 w 649440"/>
              <a:gd name="textAreaTop" fmla="*/ 19080 h 144720"/>
              <a:gd name="textAreaBottom" fmla="*/ 12564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900" hR="21600" stAng="10800000" swAng="-5400000"/>
                <a:lnTo>
                  <a:pt x="11100" y="21600"/>
                </a:lnTo>
                <a:arcTo wR="9900" hR="21600" stAng="5400000" swAng="-3636334"/>
                <a:lnTo>
                  <a:pt x="21286" y="5400"/>
                </a:lnTo>
                <a:lnTo>
                  <a:pt x="20400" y="0"/>
                </a:lnTo>
                <a:lnTo>
                  <a:pt x="18886" y="5400"/>
                </a:lnTo>
                <a:lnTo>
                  <a:pt x="19486" y="5400"/>
                </a:lnTo>
                <a:arcTo wR="9900" hR="21600" stAng="1763666" swAng="3540690"/>
                <a:lnTo>
                  <a:pt x="10500" y="21560"/>
                </a:lnTo>
                <a:arcTo wR="9900" hR="21600" stAng="5495644" swAng="5304356"/>
                <a:close/>
              </a:path>
              <a:path fill="darkenLess" w="21600" h="21600">
                <a:moveTo>
                  <a:pt x="0" y="0"/>
                </a:moveTo>
                <a:arcTo wR="9900" hR="21600" stAng="10800000" swAng="-5400000"/>
                <a:lnTo>
                  <a:pt x="11100" y="21600"/>
                </a:lnTo>
                <a:arcTo wR="9900" hR="21600" stAng="5400000" swAng="95644"/>
                <a:lnTo>
                  <a:pt x="10500" y="21560"/>
                </a:lnTo>
                <a:arcTo wR="9900" hR="21600" stAng="5495644" swAng="5304356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Migrations and Refugees: Statistic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4E120-3632-400F-AA4B-1905271F955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1" descr=""/>
          <p:cNvPicPr/>
          <p:nvPr/>
        </p:nvPicPr>
        <p:blipFill>
          <a:blip r:embed="rId1"/>
          <a:stretch/>
        </p:blipFill>
        <p:spPr>
          <a:xfrm>
            <a:off x="622440" y="2205000"/>
            <a:ext cx="7775280" cy="4008600"/>
          </a:xfrm>
          <a:prstGeom prst="rect">
            <a:avLst/>
          </a:prstGeom>
          <a:ln w="0">
            <a:noFill/>
          </a:ln>
        </p:spPr>
      </p:pic>
      <p:sp>
        <p:nvSpPr>
          <p:cNvPr id="578" name="TextBox 2"/>
          <p:cNvSpPr/>
          <p:nvPr/>
        </p:nvSpPr>
        <p:spPr>
          <a:xfrm>
            <a:off x="7450200" y="3541680"/>
            <a:ext cx="15112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Verdana"/>
              </a:rPr>
              <a:t>Other count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Verdana"/>
              </a:rPr>
              <a:t>Ira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Verdana"/>
              </a:rPr>
              <a:t>Afghanist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Verdana"/>
              </a:rPr>
              <a:t>Syr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Content Placeholder 2"/>
          <p:cNvSpPr/>
          <p:nvPr/>
        </p:nvSpPr>
        <p:spPr>
          <a:xfrm>
            <a:off x="395280" y="2205000"/>
            <a:ext cx="82296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In the EU member states registered first-time applicants for asylum 2015/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e50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e50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1,26 mio Asylum applications in the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e50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73% men; 83% &lt; 34 years; 14,5% unaccompanied minor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e50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e50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Migration and Refugees - Developments at EU level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3DB29-390C-44CC-B419-164BAAA1507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199"/>
              </a:spcAft>
              <a:buClr>
                <a:srgbClr val="0e50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Reform of the Common European Asylum System (CEAS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Aft>
                <a:spcPts val="1199"/>
              </a:spcAft>
              <a:buClr>
                <a:srgbClr val="0e50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f5494"/>
                </a:solidFill>
                <a:latin typeface="Verdana"/>
              </a:rPr>
              <a:t>Building a fair and sustainable European asylum policy</a:t>
            </a:r>
            <a:endParaRPr b="1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Aft>
                <a:spcPts val="1199"/>
              </a:spcAft>
              <a:buClr>
                <a:srgbClr val="0e50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f5494"/>
                </a:solidFill>
                <a:latin typeface="Verdana"/>
              </a:rPr>
              <a:t>Ensuring and promoting safe and legal migration paths</a:t>
            </a:r>
            <a:endParaRPr b="1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Aft>
                <a:spcPts val="1199"/>
              </a:spcAft>
              <a:buClr>
                <a:srgbClr val="0e50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ction Plan for the integration of third country national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Aft>
                <a:spcPts val="1199"/>
              </a:spcAft>
              <a:buClr>
                <a:srgbClr val="0e50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f5494"/>
                </a:solidFill>
                <a:latin typeface="Verdana"/>
              </a:rPr>
              <a:t>Concrete requirements for support of MS at EU level</a:t>
            </a:r>
            <a:endParaRPr b="1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Aft>
                <a:spcPts val="1199"/>
              </a:spcAft>
              <a:buClr>
                <a:srgbClr val="0e50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f5494"/>
                </a:solidFill>
                <a:latin typeface="Verdana"/>
              </a:rPr>
              <a:t>Special focus on labour market integration of refugees</a:t>
            </a:r>
            <a:endParaRPr b="1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Aft>
                <a:spcPts val="1199"/>
              </a:spcAft>
              <a:buClr>
                <a:srgbClr val="0e50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Revision of the Blue Card Directive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Aft>
                <a:spcPts val="1199"/>
              </a:spcAft>
              <a:buClr>
                <a:srgbClr val="0e50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daptation of Skills Initiative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New Skills Agenda for Europe (1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457200" y="2491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xpected on June 7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 package will contain a chapeau communication and proposals for the European Quality Framework (EQR) and for Euro Pas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Content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creasing the general level of skill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mproving compatibility between skills and labour market needs (improving forecasts of skills needs, cooperation with employers, social partners)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576F3-C76F-4AA7-9CB9-6685C77B8A7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New Skills Agenda for Europe (2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Content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-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mprove the comparability of qualification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- Reducing illiteracy in the population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- Importance of vocational qualification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- Digital competencie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- Improving access to qualification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6E3EB-B22E-4A4F-BC87-E3F68093584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68000" y="2060640"/>
            <a:ext cx="828036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d624"/>
                </a:solidFill>
                <a:latin typeface="Verdana"/>
              </a:rPr>
              <a:t>Thank you </a:t>
            </a:r>
            <a:br>
              <a:rPr sz="4800"/>
            </a:br>
            <a:r>
              <a:rPr b="1" lang="en-GB" sz="4800" spc="-1" strike="noStrike">
                <a:solidFill>
                  <a:srgbClr val="ffd624"/>
                </a:solidFill>
                <a:latin typeface="Verdana"/>
              </a:rPr>
              <a:t>for your attention!</a:t>
            </a:r>
            <a:endParaRPr b="1" lang="en-US" sz="4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10920" y="1483920"/>
            <a:ext cx="50403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Structure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518760" y="1988640"/>
            <a:ext cx="83739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    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0e508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  <a:ea typeface="Calibri"/>
              </a:rPr>
              <a:t>European Pillar of Social Right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0e508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  <a:ea typeface="Calibri"/>
              </a:rPr>
              <a:t>Council Recommendation on the integration of the long-term unemployed into the labour market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0e508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  <a:ea typeface="Calibri"/>
              </a:rPr>
              <a:t>Simplifications: the High Level Expert Group ("HLG Simplification")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0e508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  <a:ea typeface="Calibri"/>
              </a:rPr>
              <a:t>Country Report: analysis and timeline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0e508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  <a:ea typeface="Calibri"/>
              </a:rPr>
              <a:t>Migrations and Refugee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0e508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  <a:ea typeface="Calibri"/>
              </a:rPr>
              <a:t>New Skills Agenda for Europe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0e508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23640" y="1339920"/>
            <a:ext cx="8569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European Pillar of Social Rights (1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324000" y="2203200"/>
            <a:ext cx="842472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199"/>
              </a:spcAft>
              <a:buClr>
                <a:srgbClr val="0e50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Preliminary outline was published on 8 March 2016 (Announcement + Annex) 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Aft>
                <a:spcPts val="1199"/>
              </a:spcAft>
              <a:buClr>
                <a:srgbClr val="0e50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f5494"/>
                </a:solidFill>
                <a:uFillTx/>
                <a:latin typeface="Verdana"/>
              </a:rPr>
              <a:t>Objective</a:t>
            </a: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: building on the existing EU Social legislation, principles to support comprehensive and fair labour markets and welfare systems should be defined; they should be valid in the Eurozone (other countries can join)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Aft>
                <a:spcPts val="1199"/>
              </a:spcAft>
              <a:buClr>
                <a:srgbClr val="0e50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f5494"/>
                </a:solidFill>
                <a:uFillTx/>
                <a:latin typeface="Verdana"/>
              </a:rPr>
              <a:t>Final paper</a:t>
            </a: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: to serve as a contribution to the Commission's White Paper of deepening the EMU, foreseen in Spring 2017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05FEC-151D-4867-A6FA-D1D32755800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95280" y="1268280"/>
            <a:ext cx="8353440" cy="57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Social Pillar: 3 main chapters (2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95280" y="1989000"/>
            <a:ext cx="8353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f5494"/>
                </a:solidFill>
                <a:uFillTx/>
                <a:latin typeface="Verdana"/>
              </a:rPr>
              <a:t>EQUAL OPPORTUNITIES AND ACCESS TO THE LABOUR MARKET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* Skills, education and life-long learning </a:t>
            </a: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	</a:t>
            </a: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	</a:t>
            </a: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* Flexible and secure labour contracts </a:t>
            </a:r>
            <a:endParaRPr b="1" lang="en-US" sz="1300" spc="-1" strike="noStrike">
              <a:solidFill>
                <a:srgbClr val="0f5494"/>
              </a:solidFill>
              <a:latin typeface="Verdana"/>
            </a:endParaRPr>
          </a:p>
          <a:p>
            <a:pPr lvl="1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* Secure professional transitions </a:t>
            </a: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	</a:t>
            </a: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	</a:t>
            </a: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* Active support for employment </a:t>
            </a:r>
            <a:endParaRPr b="1" lang="en-US" sz="1300" spc="-1" strike="noStrike">
              <a:solidFill>
                <a:srgbClr val="0f5494"/>
              </a:solidFill>
              <a:latin typeface="Verdana"/>
            </a:endParaRPr>
          </a:p>
          <a:p>
            <a:pPr lvl="1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* Gender equality and work-life balance </a:t>
            </a: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	</a:t>
            </a: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	</a:t>
            </a: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* Equal opportunities</a:t>
            </a:r>
            <a:endParaRPr b="1" lang="en-US" sz="13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f5494"/>
                </a:solidFill>
                <a:uFillTx/>
                <a:latin typeface="Verdana"/>
              </a:rPr>
              <a:t>FAIR WORKING CONDITIONS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* Conditions of employment</a:t>
            </a: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	</a:t>
            </a: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	</a:t>
            </a: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	</a:t>
            </a: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* Wages </a:t>
            </a:r>
            <a:endParaRPr b="1" lang="en-US" sz="1300" spc="-1" strike="noStrike">
              <a:solidFill>
                <a:srgbClr val="0f5494"/>
              </a:solidFill>
              <a:latin typeface="Verdana"/>
            </a:endParaRPr>
          </a:p>
          <a:p>
            <a:pPr lvl="1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* Health and safety at work</a:t>
            </a: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	</a:t>
            </a: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	</a:t>
            </a: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	</a:t>
            </a: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* Social dialogue and involvement of </a:t>
            </a:r>
            <a:endParaRPr b="1" lang="en-US" sz="1300" spc="-1" strike="noStrike">
              <a:solidFill>
                <a:srgbClr val="0f5494"/>
              </a:solidFill>
              <a:latin typeface="Verdana"/>
            </a:endParaRPr>
          </a:p>
          <a:p>
            <a:pPr lvl="1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	</a:t>
            </a: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	</a:t>
            </a: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	</a:t>
            </a: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	</a:t>
            </a: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	</a:t>
            </a: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   </a:t>
            </a: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workers</a:t>
            </a:r>
            <a:endParaRPr b="1" lang="en-US" sz="13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f5494"/>
                </a:solidFill>
                <a:uFillTx/>
                <a:latin typeface="Verdana"/>
              </a:rPr>
              <a:t>ADEQUATE AND SUSTAINABLE SOCIAL PROTECTION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* Integrated social benefits and services</a:t>
            </a: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	</a:t>
            </a: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	</a:t>
            </a: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* Health care and sickness benefits</a:t>
            </a:r>
            <a:endParaRPr b="1" lang="en-US" sz="1300" spc="-1" strike="noStrike">
              <a:solidFill>
                <a:srgbClr val="0f5494"/>
              </a:solidFill>
              <a:latin typeface="Verdana"/>
            </a:endParaRPr>
          </a:p>
          <a:p>
            <a:pPr lvl="1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* Pensions</a:t>
            </a: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	</a:t>
            </a: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	</a:t>
            </a: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	</a:t>
            </a: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	</a:t>
            </a: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	</a:t>
            </a: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* Unemployment benefits</a:t>
            </a:r>
            <a:endParaRPr b="1" lang="en-US" sz="1300" spc="-1" strike="noStrike">
              <a:solidFill>
                <a:srgbClr val="0f5494"/>
              </a:solidFill>
              <a:latin typeface="Verdana"/>
            </a:endParaRPr>
          </a:p>
          <a:p>
            <a:pPr lvl="1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* Minimum income</a:t>
            </a: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	</a:t>
            </a: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	</a:t>
            </a: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	</a:t>
            </a: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	</a:t>
            </a: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* Disability benefits</a:t>
            </a:r>
            <a:endParaRPr b="1" lang="en-US" sz="1300" spc="-1" strike="noStrike">
              <a:solidFill>
                <a:srgbClr val="0f5494"/>
              </a:solidFill>
              <a:latin typeface="Verdana"/>
            </a:endParaRPr>
          </a:p>
          <a:p>
            <a:pPr lvl="1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* Long-term care</a:t>
            </a: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	</a:t>
            </a: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	</a:t>
            </a: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	</a:t>
            </a: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	</a:t>
            </a: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* Childcare</a:t>
            </a:r>
            <a:endParaRPr b="1" lang="en-US" sz="1300" spc="-1" strike="noStrike">
              <a:solidFill>
                <a:srgbClr val="0f5494"/>
              </a:solidFill>
              <a:latin typeface="Verdana"/>
            </a:endParaRPr>
          </a:p>
          <a:p>
            <a:pPr lvl="1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* Housing</a:t>
            </a: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	</a:t>
            </a: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	</a:t>
            </a: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	</a:t>
            </a: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	</a:t>
            </a: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	</a:t>
            </a: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* Access to essential services</a:t>
            </a:r>
            <a:endParaRPr b="1" lang="en-US" sz="13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9BE66-1567-42FD-8D93-22AF5B6ED1B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4604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Social Pillar – Consultations (3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395280" y="220464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199"/>
              </a:spcAft>
              <a:buClr>
                <a:srgbClr val="0e50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onsultation is aimed at citizens, organisations and authorities (deadline: 31 December 2016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Aft>
                <a:spcPts val="1199"/>
              </a:spcAft>
              <a:buClr>
                <a:srgbClr val="0e50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Goals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Aft>
                <a:spcPts val="1199"/>
              </a:spcAft>
              <a:buClr>
                <a:srgbClr val="0e50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Inventory and evaluation of the current EU Social legislation (Social „Acquis“);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Aft>
                <a:spcPts val="1199"/>
              </a:spcAft>
              <a:buClr>
                <a:srgbClr val="0e50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Reflection on new trends and developments in the labour market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Aft>
                <a:spcPts val="1199"/>
              </a:spcAft>
              <a:buClr>
                <a:srgbClr val="0e50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Obtaining feedback signals (to role, scope, content and responsiveness of the proposed European pillar)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Aft>
                <a:spcPts val="1199"/>
              </a:spcAft>
              <a:buClr>
                <a:srgbClr val="0e50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Participation in the consultation: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http://ec.europa.eu/social/main.jsp?langId=de&amp;catId=699&amp;consultId=22&amp;visib=0&amp;furtherConsult=ye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73778-A9C7-42A6-8DCC-7AB5A624A85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6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24000" y="1339920"/>
            <a:ext cx="8712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Council Recommendation on the integration of long-term unemployed into the labour market on 15 February 2016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Recommendation was formally adopted by the council on 15 February 2016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xpectations connected with recommenda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SF as best practice and Financial instrumen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valuation of the implementation of the recommendation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27BD6-EE8D-407A-BE28-A0D144F21DD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24000" y="1339920"/>
            <a:ext cx="8712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Council Recommendation on the integration of long-term unemployed into the labour market on 15 February 2016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1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Support the registration of jobseekers and a closer labour-market orientation of integration measures, inter alia, through a closer link with employers.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Provide individual assessments to registered long-term unemployed persons.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ake a specific offer of a job-integration agreement at the very latest when a long-term unemployed person has reached 18 months of unemployment. […]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47BD3-6D89-4171-BE30-42EF6A4E3B8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50920" y="1197000"/>
            <a:ext cx="86421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f5494"/>
                </a:solidFill>
                <a:latin typeface="Verdana"/>
              </a:rPr>
              <a:t>Simplifications: the High Level Expert Group ("HLG Simplification")</a:t>
            </a: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179280" y="2492280"/>
            <a:ext cx="885672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f5494"/>
                </a:solidFill>
                <a:uFillTx/>
                <a:latin typeface="Verdana"/>
              </a:rPr>
              <a:t>HLG task: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dvise the Commission (analysis of the use and implementation of simplification and good practices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f5494"/>
                </a:solidFill>
                <a:uFillTx/>
                <a:latin typeface="Verdana"/>
              </a:rPr>
              <a:t>Recommendations to the Commission (2nd Meeting)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Recognition of the SCOs potential but uncertainties, i.e. state aid, to be clarified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More support for the programing authoritie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creasing possibilities of ex-ante assurance and an accelerated approval for simplifications i.e. Article 14 of ESF regulation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Bring forward legislative change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FB528-43C3-4A41-A417-ED026987AC8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5694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Country Report: Analysis and timeline (European Semester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256356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ountry Report published on February 26, 2016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-depth review of the prevention and correction of macroeconomic imbalance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Focus is on investment and fiscal sustainability including pensions, long-term care and health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Labour market and other social policies are discussed in the chapter "other structural aspects"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ountry Report is discussed with the Member States at different levels (committees, visits to MS, Social Partners)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ountry specific Recommendations were published on 18 May 2016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4659F-C7C4-4883-AFA5-BA742E7092A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Curved Up Arrow 1"/>
          <p:cNvSpPr/>
          <p:nvPr/>
        </p:nvSpPr>
        <p:spPr>
          <a:xfrm>
            <a:off x="7451640" y="4724280"/>
            <a:ext cx="649440" cy="144720"/>
          </a:xfrm>
          <a:custGeom>
            <a:avLst/>
            <a:gdLst>
              <a:gd name="textAreaLeft" fmla="*/ 148680 w 649440"/>
              <a:gd name="textAreaRight" fmla="*/ 482760 w 649440"/>
              <a:gd name="textAreaTop" fmla="*/ 19080 h 144720"/>
              <a:gd name="textAreaBottom" fmla="*/ 12564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900" hR="21600" stAng="10800000" swAng="-5400000"/>
                <a:lnTo>
                  <a:pt x="11100" y="21600"/>
                </a:lnTo>
                <a:arcTo wR="9900" hR="21600" stAng="5400000" swAng="-3636334"/>
                <a:lnTo>
                  <a:pt x="21286" y="5400"/>
                </a:lnTo>
                <a:lnTo>
                  <a:pt x="20400" y="0"/>
                </a:lnTo>
                <a:lnTo>
                  <a:pt x="18886" y="5400"/>
                </a:lnTo>
                <a:lnTo>
                  <a:pt x="19486" y="5400"/>
                </a:lnTo>
                <a:arcTo wR="9900" hR="21600" stAng="1763666" swAng="3540690"/>
                <a:lnTo>
                  <a:pt x="10500" y="21560"/>
                </a:lnTo>
                <a:arcTo wR="9900" hR="21600" stAng="5495644" swAng="5304356"/>
                <a:close/>
              </a:path>
              <a:path fill="darkenLess" w="21600" h="21600">
                <a:moveTo>
                  <a:pt x="0" y="0"/>
                </a:moveTo>
                <a:arcTo wR="9900" hR="21600" stAng="10800000" swAng="-5400000"/>
                <a:lnTo>
                  <a:pt x="11100" y="21600"/>
                </a:lnTo>
                <a:arcTo wR="9900" hR="21600" stAng="5400000" swAng="95644"/>
                <a:lnTo>
                  <a:pt x="10500" y="21560"/>
                </a:lnTo>
                <a:arcTo wR="9900" hR="21600" stAng="5495644" swAng="5304356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11:35:10Z</dcterms:created>
  <dc:creator>JOUNILA Pekka (REGIO)</dc:creator>
  <dc:description/>
  <dc:language>en-US</dc:language>
  <cp:lastModifiedBy>POKORNY Adam (EMPL)</cp:lastModifiedBy>
  <cp:lastPrinted>2016-05-17T14:59:40Z</cp:lastPrinted>
  <dcterms:modified xsi:type="dcterms:W3CDTF">2016-05-18T14:47:15Z</dcterms:modified>
  <cp:revision>673</cp:revision>
  <dc:subject/>
  <dc:title>PowerPoint Presentation</dc:title>
</cp:coreProperties>
</file>